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DD4-4C60-4256-92AA-82705606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7A8-B375-4C1F-B6DD-8E85F21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47F-396E-4D1D-9B09-83261FC5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1D0-2AC1-4AF9-B9CD-A94FC2DE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DC8-2DA1-4651-9E05-CEF76D5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50A-826F-4F6A-99A9-41692A6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07E-E8CA-435E-A6DB-6D17EE51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766-6E7C-4EE1-B775-44E9324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9B6-1686-476C-96A6-64527A7F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CCF-98D9-4572-B338-5FB98B4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45A-D1E8-402A-A930-EA81D49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83B-DEAB-429B-AE0D-26B8BC05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ABC-927B-4CE3-BCCC-CEB9DA863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76908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25636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249120" y="468360"/>
            <a:ext cx="7491600" cy="498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1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4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 Marcador de contenido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47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6069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168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29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985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0" y="1125360"/>
            <a:ext cx="3909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850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54Z</dcterms:modified>
  <cp:revision>17</cp:revision>
  <dc:subject/>
  <dc:title>Presentación de PowerPoint</dc:title>
</cp:coreProperties>
</file>